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4115-F350-4DED-A5BD-23CB2B11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974-9947-4048-9FF9-0431CB17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342-E8A2-480E-9E51-72439622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15C-6B9E-45C0-848B-F5606BC6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F8D-57DB-4D41-B4A6-6503FEE6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3D8-346C-4D8A-8129-39AC5BDA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EE8-C5B7-4F87-8170-8221CAE4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99C-7E8C-467D-AE04-F2D81ACB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195-70E2-419C-83E4-482C5E9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8E5-8CE6-4542-891C-DA172BE9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2EC-A701-40A4-99A6-6E562956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B31-B3F5-4F76-9D7C-BE98470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36B-6B94-4BF7-8FE3-CBBD28E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590-EB55-4680-83BF-8C8C373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DC65-D56B-4678-BEF2-DA312D77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45Z</dcterms:modified>
  <cp:revision>102</cp:revision>
  <dc:subject/>
  <dc:title>Profile</dc:title>
</cp:coreProperties>
</file>